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4.jpeg" ContentType="image/jpeg"/>
  <Override PartName="/ppt/media/image3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6.png" ContentType="image/png"/>
  <Override PartName="/ppt/media/image23.png" ContentType="image/png"/>
  <Override PartName="/ppt/media/image13.jpeg" ContentType="image/jpeg"/>
  <Override PartName="/ppt/media/image30.png" ContentType="image/png"/>
  <Override PartName="/ppt/media/image5.png" ContentType="image/png"/>
  <Override PartName="/ppt/media/image29.jpeg" ContentType="image/jpeg"/>
  <Override PartName="/ppt/media/image32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png" ContentType="image/png"/>
  <Override PartName="/ppt/media/image28.jpeg" ContentType="image/jpeg"/>
  <Override PartName="/ppt/media/image21.png" ContentType="image/png"/>
  <Override PartName="/ppt/media/image2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2752-B010-403A-BC23-3532AB9EAC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6F86-AB7D-4184-A7B3-A56E53D486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2A01-4643-4E99-984E-C0728FC0A1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D1B0-2C53-4650-96E3-8276634F93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F721-AB32-4FA1-9D16-0BEE30C7A4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AE82-8C62-4A9C-88ED-B0B914091D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7E71-3196-44EB-ADF6-BB4566FDAD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CE84-26FF-411D-96F8-C6ED971122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3511-1BCC-4C51-8997-FF3017FC72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8E1E-6171-49C1-813F-72B522A418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193B-354B-43E0-84CA-6615ED250C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8E72-4480-49D4-A31C-B647D620D2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A78E-68BC-4E6D-8449-B4762867F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3550-1369-4D83-A3F5-DEAD6833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94EE0-FCA4-4EAE-B578-CF3CAF67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F2DCE1-1E84-4FDE-8F7D-1C80D72E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74D51-BCEC-408D-94C2-CFB5FC23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7853E-81FA-4A71-826A-5F89ABCA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D6E38-F895-4B62-B9CA-EA5E0648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940D6-42DC-4B5F-B3BC-A896D8FA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49AF15-3C67-462B-8152-880D379D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CF8E9-F07F-45FF-B24B-B90159E76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A4CFB-46AE-432A-B862-ED9C31608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5DCB-DD7D-4829-AA9E-D65570730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2A29-AAF1-4C14-AFEE-D89A8BC3D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A758-421B-4322-A438-783A9997B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C19B-92AA-4235-A084-52115F47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4164-6A44-43A1-A2D2-C742C472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E38C-4E83-4545-934D-D33972BE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6FFC-3EAE-4474-B6D8-BD141598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DB74-4A5D-493B-AD08-66743E38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005F-2861-4496-9566-3191097C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8848-F48D-4D4D-870B-B55CD3C6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3F95-B928-4210-A730-789078DF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2CD1-D086-4EBE-9FEC-20FC1BB8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C472-AFC3-46A1-9AF6-0F2A99ED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8DD7-BB9B-4187-A7DD-A40D51180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2483-4E60-4340-9B57-D65423BC2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3E922-FC9F-45EE-82F3-C9B7022D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6EC62-A1B2-4828-B29B-01A4F926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CEFA9-B0BB-4337-80E8-F7C5F049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281D5-39BB-46B2-93EE-D8386694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A29DE-C4DE-47C8-8AF5-97E8986C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AEC1-6297-456F-8AE4-BFC75348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2ED6C-5554-4362-8EF5-46E1AD6B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DA669-1082-4D86-83B3-DD4EB21D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D08B9-556B-459E-B259-5A681BAA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18413-32D7-485E-BB3D-D60E6E43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62D7C-F6CD-456C-8C3B-2AF54AD8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ADBD4-6AA0-45A2-9C19-AEB93E9A5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92A1F-1050-466E-84E7-7F30B4AAC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C9A61-7DC6-40E6-9142-7D5A52907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5C325-067E-4C59-A6BA-B070FC2A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5CC8B-42B1-48A5-BE3F-C4E08413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3A71-DEA2-4FDF-B077-D2241BE0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C24A7-8F25-4D75-A2A7-B86853A9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828E2-8493-4D83-B86A-C048D369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7AD0D-F2C3-4D97-A745-B236A7BC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017A3-D52B-4B85-85AC-B46FB148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C0E29-2D63-4727-8293-6764957A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E1601-3909-4505-8523-9A4BB95E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7B1F8-4276-436D-8602-854E8FB1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2984E-697C-4FC6-A83C-64C2A0AFB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EDE5A-E23C-4E5F-91EE-01A0BE3E5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511C6-C85D-4636-A751-92083DF0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E691-0DE1-484D-8455-8E609938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CC2E4-D165-481B-BA22-8D18DE06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3F328-E9C1-4C2D-A62B-2CE1F99E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8BF6C-9229-4866-886A-500BB014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A5AF8-DF51-47CA-9566-3DC2D5BA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8E9BF-09E1-4652-B7A4-83803379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52E0D-39B5-41D0-B23F-09B8715C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73663-483A-4488-9FA3-7947F8CB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5514C-A1A5-40D4-AB2A-9D619FFB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F871C-F530-4B6B-9817-17F60F0F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3FD18-F061-4CF1-B63F-9E7400B76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B398-1528-4F5D-A0ED-14081F2E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3E0B3-EB8C-4B51-98E1-83594B089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156F2-444D-4108-8EE8-26C8738A5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8B0DC-59B0-4D9B-8499-5CFE0A1E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C9368-5BC2-45D8-B51C-AE1A6E59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1C37B-7FEE-4AD8-A02A-FDF19631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A66DC-D30E-4AEB-B482-E6762FB1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6D290-B7C5-4601-B0CB-F6F641E2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B3DA9-C5E2-44CA-A287-33F79E3B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4766F-648D-4181-9741-A627FEE5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921BC-84A3-47F9-98EB-1CFB9A70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8C55-5931-448A-9EB8-54436458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E527E-AE53-4CD9-872F-3C312B61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4E1C1-2EDF-43CB-ADF8-AF4E2A87B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AB1EF-0274-4BBE-9B3C-89757E837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00C0C-5C4E-4597-8AF5-66082C3C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14C95-3624-4DFF-909F-847A05A8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9C7C5-BD80-4914-9F1F-8D42DE9C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7B202-8785-4A96-A9B5-07735586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CD4FD-4D75-4D2B-B716-B3D2C458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79663-E34A-41CF-977D-27C96174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F705D-5CD5-4B9A-9047-7F46A97C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CE42-D702-4600-8017-29F20874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E95BC-71C3-44F0-A86A-2E6D7DB3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6E3B5-7581-4E6B-A3CA-A6081ED8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84DFC-2F15-4EB2-AF29-B2A72037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F3227-82BB-49DE-81BE-2C8EF172F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BAD2B-088A-451C-9C81-5BBEDA27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ACF3F-25B7-4171-8551-CA1A3C19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34CB5-3116-4E45-9250-D3ABA409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496D8-E5D7-4196-A982-FCAD380A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795CD-1D79-4B58-850A-18D2C4B3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B192D-65B7-4110-A43A-2AFFA02F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CB48-65FF-4A91-B649-905A4AB8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86514-D799-4036-82C1-103CAE64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FC715-4516-4963-96F4-8731F60F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7AB0E-1735-4B4A-9418-D1392299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C758F-8A13-4DE9-95C4-D281EC80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F46AD-F939-4C11-8464-B3DAFE73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455B5-F191-41FA-8801-925874CCF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90F1C-67A6-4FDC-A5A6-5DA7A19DF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108B3-D4EC-4ED2-ADCE-3CBF280DB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B7049-0D05-4ED8-9664-CA942074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A218B-5A06-4D89-8115-22F242D0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CED0-0A48-4737-B8A1-12295885E78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66D8-C74F-4C9E-8FBD-5FF7214F09D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09FA-76C1-4C3C-AD74-9DDA07BF79D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F98F-6121-4C86-86BB-BC0FA5858C9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A06E-AE76-4751-9887-D8E17D06494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B5C0-B5F7-42E7-8F1A-A73221AA939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426A-B042-405E-997B-9C38FD7BF90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19D5-6EB1-47A1-90F8-628831FA3966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BE24-2CDE-4734-B9E5-883AC3F2C17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0" y="2749680"/>
            <a:ext cx="9144000" cy="20541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612px-KementerianPelajaran_(Putih)"/>
          <p:cNvPicPr/>
          <p:nvPr/>
        </p:nvPicPr>
        <p:blipFill>
          <a:blip r:embed="rId2"/>
          <a:stretch/>
        </p:blipFill>
        <p:spPr>
          <a:xfrm>
            <a:off x="762120" y="838080"/>
            <a:ext cx="1009440" cy="99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08" name="Picture 4" descr="LOGOJPNS"/>
          <p:cNvPicPr/>
          <p:nvPr/>
        </p:nvPicPr>
        <p:blipFill>
          <a:blip r:embed="rId3"/>
          <a:stretch/>
        </p:blipFill>
        <p:spPr>
          <a:xfrm>
            <a:off x="7265880" y="773280"/>
            <a:ext cx="811440" cy="1055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09" name="Picture 5" descr="logo_-persekutuan_malaysia"/>
          <p:cNvPicPr/>
          <p:nvPr/>
        </p:nvPicPr>
        <p:blipFill>
          <a:blip r:embed="rId4"/>
          <a:stretch/>
        </p:blipFill>
        <p:spPr>
          <a:xfrm>
            <a:off x="3809880" y="750960"/>
            <a:ext cx="1436760" cy="1077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10" name="TextBox 5"/>
          <p:cNvSpPr/>
          <p:nvPr/>
        </p:nvSpPr>
        <p:spPr>
          <a:xfrm>
            <a:off x="0" y="54100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isediakan ole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ktor Pengurusan Maklumat (ICT)</a:t>
            </a:r>
            <a:br>
              <a:rPr sz="2000"/>
            </a:b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ttp://www.spmict.jpnns.gov.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0492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Maklumat utama yang terdapat pada paparan utama e-Aktiviti adalah seperti berikut:-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Nama Aktiviti ataupun Program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arikh mula dan tamat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tatu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atata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indaka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Lapora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6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ama Aktiviti ataupun Program adalah merupakan tajuk kepada aktiviti yang akan dijalankan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ntohnya : “</a:t>
            </a:r>
            <a:r>
              <a:rPr b="0" lang="en-MY" sz="3200" spc="-1" strike="noStrike">
                <a:solidFill>
                  <a:srgbClr val="4e3b30"/>
                </a:solidFill>
                <a:latin typeface="Franklin Gothic Book"/>
              </a:rPr>
              <a:t>Mesyuarat Pengelolaan Permainan MSSM “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8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Title 1" descr=""/>
          <p:cNvPicPr/>
          <p:nvPr/>
        </p:nvPicPr>
        <p:blipFill>
          <a:blip r:embed="rId1"/>
          <a:stretch/>
        </p:blipFill>
        <p:spPr>
          <a:xfrm>
            <a:off x="146160" y="457200"/>
            <a:ext cx="8845560" cy="9270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arikh mula dan tamat adalah merupakan tarikh bermulanya aktiviti dan tarikh berakhirnya sesuatu aktiviti itu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ntohnya : “</a:t>
            </a:r>
            <a:r>
              <a:rPr b="0" lang="en-MY" sz="3200" spc="-1" strike="noStrike">
                <a:solidFill>
                  <a:srgbClr val="4e3b30"/>
                </a:solidFill>
                <a:latin typeface="Franklin Gothic Book"/>
              </a:rPr>
              <a:t>01/03/2012 - 01/03/2012”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tatus adalah merupakan kedudukan terkini sesuatu aktiviti itu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a mengandungi perkara seperti “</a:t>
            </a:r>
            <a:r>
              <a:rPr b="0" lang="en-MY" sz="3200" spc="-1" strike="noStrike">
                <a:solidFill>
                  <a:srgbClr val="4e3b30"/>
                </a:solidFill>
                <a:latin typeface="Franklin Gothic Book"/>
              </a:rPr>
              <a:t>Belum Dilaksanakan”, “Telah Dilaksanakan” dan “Di tangguhkan”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atatan berfungsi bagi menerangkan sebab jika sesuatu aktiviti itu ditangguhkan ataupun dibatalka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Title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0303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indakan adalah merupakan maklumat yang memaparkan tindakan atau diuruskan oleh sesuatu sektor itu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Title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0303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Laporan adalah merupakan maklumat yang berkaitan dengan sesuatu aktiviti yang telah dijalankan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a dimasukkan oleh Sektor yang menguruskan sesuatu aktiviti itu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Jika laporan telah dimasukkan, Sistem akan memaparkan pautan kepada laporan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 txBox="1"/>
          <p:nvPr/>
        </p:nvSpPr>
        <p:spPr>
          <a:xfrm>
            <a:off x="304920" y="1553760"/>
            <a:ext cx="8686800" cy="16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Log masuk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i. Masuk ke laman web </a:t>
            </a:r>
            <a:r>
              <a:rPr b="0" lang="en-US" sz="18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http://www.jpnns.gov.my/aktiviti</a:t>
            </a: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 Muka hadapan sistem e-Aktiviti akan dipaparkan</a:t>
            </a:r>
            <a:r>
              <a:rPr b="0" lang="en-US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1" name="Picture 3" descr=""/>
          <p:cNvPicPr/>
          <p:nvPr/>
        </p:nvPicPr>
        <p:blipFill>
          <a:blip r:embed="rId2"/>
          <a:stretch/>
        </p:blipFill>
        <p:spPr>
          <a:xfrm>
            <a:off x="380880" y="2971800"/>
            <a:ext cx="8229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228600" y="304560"/>
            <a:ext cx="86868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Times New Roman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Klik pada “Log Masuk”. Skrin log masuk sistem ini akan dipaparkan.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623880" indent="-51444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Bagi pengguna pertama kali sila masukkan nombor kad pengenalan sahaja dan terus klik pada butang masuk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Bagi pengguna yang telah megemaskini profil sila masukkan nombor kad pengenalan dan kata laluan, kemudian klik butang masuk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6238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3" name="Picture 3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7543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304920" y="151920"/>
            <a:ext cx="8686800" cy="8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Maklumat staf seperti gambar, nama, jawatan, unit serta senarai aktiviti mengikut Sektor akan dipaparkan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5" name="Picture 3" descr=""/>
          <p:cNvPicPr/>
          <p:nvPr/>
        </p:nvPicPr>
        <p:blipFill>
          <a:blip r:embed="rId1"/>
          <a:stretch/>
        </p:blipFill>
        <p:spPr>
          <a:xfrm>
            <a:off x="380880" y="1271520"/>
            <a:ext cx="845820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122400" y="457200"/>
            <a:ext cx="8869320" cy="97488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6"/>
          <p:cNvSpPr/>
          <p:nvPr/>
        </p:nvSpPr>
        <p:spPr>
          <a:xfrm>
            <a:off x="222120" y="1993320"/>
            <a:ext cx="8686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e-Aktiviti adalah merupakan sebuah takwim digital yang ditranformasikan daripada sebuah takwim yang konvensional. Mengandungi semua fungsi takwim yang boleh digunakan secara interaktif bagi memaksimumkan penggunaan sesebuah takw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Klik pada butang      bagi mengemaskinikan aktivit serta memasukkan laporan aktiviti yang telah dijalankan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7" name="Picture 3" descr=""/>
          <p:cNvPicPr/>
          <p:nvPr/>
        </p:nvPicPr>
        <p:blipFill>
          <a:blip r:embed="rId1"/>
          <a:stretch/>
        </p:blipFill>
        <p:spPr>
          <a:xfrm>
            <a:off x="2317680" y="380880"/>
            <a:ext cx="246240" cy="2145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4" descr=""/>
          <p:cNvPicPr/>
          <p:nvPr/>
        </p:nvPicPr>
        <p:blipFill>
          <a:blip r:embed="rId2"/>
          <a:stretch/>
        </p:blipFill>
        <p:spPr>
          <a:xfrm>
            <a:off x="766800" y="1143000"/>
            <a:ext cx="7610400" cy="1800360"/>
          </a:xfrm>
          <a:prstGeom prst="rect">
            <a:avLst/>
          </a:prstGeom>
          <a:ln w="0">
            <a:noFill/>
          </a:ln>
        </p:spPr>
      </p:pic>
      <p:sp>
        <p:nvSpPr>
          <p:cNvPr id="459" name="Content Placeholder 2"/>
          <p:cNvSpPr/>
          <p:nvPr/>
        </p:nvSpPr>
        <p:spPr>
          <a:xfrm>
            <a:off x="380880" y="297036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Jika sesuatu aktiviti itu mempunyai laporan, klik pada butang “browse” maka paparan seperti di bawah akan di papark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6" descr=""/>
          <p:cNvPicPr/>
          <p:nvPr/>
        </p:nvPicPr>
        <p:blipFill>
          <a:blip r:embed="rId3"/>
          <a:stretch/>
        </p:blipFill>
        <p:spPr>
          <a:xfrm>
            <a:off x="731880" y="3732120"/>
            <a:ext cx="772632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304920" y="1523520"/>
            <a:ext cx="868680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Setelah laporan berjaya di hantar, paparan pada muka hadapan akan mengandungi pautan pada laporan tersebut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2" name="Picture 3" descr=""/>
          <p:cNvPicPr/>
          <p:nvPr/>
        </p:nvPicPr>
        <p:blipFill>
          <a:blip r:embed="rId1"/>
          <a:stretch/>
        </p:blipFill>
        <p:spPr>
          <a:xfrm>
            <a:off x="457200" y="2895480"/>
            <a:ext cx="8458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0492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KIAN, TERIMA KASIH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le 1" descr=""/>
          <p:cNvPicPr/>
          <p:nvPr/>
        </p:nvPicPr>
        <p:blipFill>
          <a:blip r:embed="rId1"/>
          <a:stretch/>
        </p:blipFill>
        <p:spPr>
          <a:xfrm>
            <a:off x="122400" y="457200"/>
            <a:ext cx="8869320" cy="9748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"/>
          <p:cNvPicPr/>
          <p:nvPr/>
        </p:nvPicPr>
        <p:blipFill>
          <a:blip r:embed="rId2"/>
          <a:stretch/>
        </p:blipFill>
        <p:spPr>
          <a:xfrm>
            <a:off x="762120" y="1324080"/>
            <a:ext cx="78483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1"/>
          <a:stretch/>
        </p:blipFill>
        <p:spPr>
          <a:xfrm>
            <a:off x="122400" y="457200"/>
            <a:ext cx="8869320" cy="9748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" descr=""/>
          <p:cNvPicPr/>
          <p:nvPr/>
        </p:nvPicPr>
        <p:blipFill>
          <a:blip r:embed="rId2"/>
          <a:stretch/>
        </p:blipFill>
        <p:spPr>
          <a:xfrm>
            <a:off x="380880" y="1587600"/>
            <a:ext cx="822960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122400" y="457200"/>
            <a:ext cx="8869320" cy="97488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6"/>
          <p:cNvSpPr/>
          <p:nvPr/>
        </p:nvSpPr>
        <p:spPr>
          <a:xfrm>
            <a:off x="222120" y="1394280"/>
            <a:ext cx="8686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Memastikan bahawa semua aktiviti yang telah ditetapkan di dalam takwim dapat diiku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Menjadikan e-Aktiviti sebuah takwim digital yang mempunyai ciri-ciri interaktif yang membolehkan semua pihak mengambil bahag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Menjadi himpunan takwim bagi setiap tah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Membudayakan ICT di JPN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6"/>
          <p:cNvSpPr/>
          <p:nvPr/>
        </p:nvSpPr>
        <p:spPr>
          <a:xfrm>
            <a:off x="255600" y="1555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Paparan automatik mengikut bulan dan tahun sem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122400" y="457200"/>
            <a:ext cx="8869320" cy="9748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" descr=""/>
          <p:cNvPicPr/>
          <p:nvPr/>
        </p:nvPicPr>
        <p:blipFill>
          <a:blip r:embed="rId2"/>
          <a:stretch/>
        </p:blipFill>
        <p:spPr>
          <a:xfrm>
            <a:off x="949320" y="2286000"/>
            <a:ext cx="723888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le 1" descr=""/>
          <p:cNvPicPr/>
          <p:nvPr/>
        </p:nvPicPr>
        <p:blipFill>
          <a:blip r:embed="rId1"/>
          <a:stretch/>
        </p:blipFill>
        <p:spPr>
          <a:xfrm>
            <a:off x="122400" y="457200"/>
            <a:ext cx="8869320" cy="9748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55600" y="143388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Pengguna boleh memilih paparan mengikut bulan dan tahun yang dikehenda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" descr=""/>
          <p:cNvPicPr/>
          <p:nvPr/>
        </p:nvPicPr>
        <p:blipFill>
          <a:blip r:embed="rId2"/>
          <a:stretch/>
        </p:blipFill>
        <p:spPr>
          <a:xfrm>
            <a:off x="3429000" y="2666880"/>
            <a:ext cx="2514600" cy="2819520"/>
          </a:xfrm>
          <a:prstGeom prst="rect">
            <a:avLst/>
          </a:prstGeom>
          <a:ln w="0">
            <a:noFill/>
          </a:ln>
        </p:spPr>
      </p:pic>
      <p:sp>
        <p:nvSpPr>
          <p:cNvPr id="425" name="Down Arrow 2"/>
          <p:cNvSpPr/>
          <p:nvPr/>
        </p:nvSpPr>
        <p:spPr>
          <a:xfrm>
            <a:off x="4800600" y="2057400"/>
            <a:ext cx="380880" cy="68580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ight Arrow 5"/>
          <p:cNvSpPr/>
          <p:nvPr/>
        </p:nvSpPr>
        <p:spPr>
          <a:xfrm>
            <a:off x="2209680" y="4191120"/>
            <a:ext cx="1067040" cy="38088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6"/>
          <p:cNvSpPr/>
          <p:nvPr/>
        </p:nvSpPr>
        <p:spPr>
          <a:xfrm>
            <a:off x="4686480" y="20581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Pilihan ikut tah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-152280" y="42030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Pilihan ikut bu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04920" y="155376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Paparan hari kelepasan am bagi setiap bula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0" name="Title 1" descr=""/>
          <p:cNvPicPr/>
          <p:nvPr/>
        </p:nvPicPr>
        <p:blipFill>
          <a:blip r:embed="rId1"/>
          <a:stretch/>
        </p:blipFill>
        <p:spPr>
          <a:xfrm>
            <a:off x="122400" y="457200"/>
            <a:ext cx="8869320" cy="9748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2" descr=""/>
          <p:cNvPicPr/>
          <p:nvPr/>
        </p:nvPicPr>
        <p:blipFill>
          <a:blip r:embed="rId2"/>
          <a:stretch/>
        </p:blipFill>
        <p:spPr>
          <a:xfrm>
            <a:off x="762120" y="2119320"/>
            <a:ext cx="731520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304920" y="1553760"/>
            <a:ext cx="868680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Pentadbir sistem boleh membuat sebarang pengumuman dari masa ke semasa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3" name="Title 1" descr=""/>
          <p:cNvPicPr/>
          <p:nvPr/>
        </p:nvPicPr>
        <p:blipFill>
          <a:blip r:embed="rId1"/>
          <a:stretch/>
        </p:blipFill>
        <p:spPr>
          <a:xfrm>
            <a:off x="122400" y="457200"/>
            <a:ext cx="8869320" cy="974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2" descr=""/>
          <p:cNvPicPr/>
          <p:nvPr/>
        </p:nvPicPr>
        <p:blipFill>
          <a:blip r:embed="rId2"/>
          <a:stretch/>
        </p:blipFill>
        <p:spPr>
          <a:xfrm>
            <a:off x="3276720" y="2438280"/>
            <a:ext cx="2819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07:21:13Z</dcterms:created>
  <dc:creator>Valued Acer Customer</dc:creator>
  <dc:description/>
  <dc:language>en-US</dc:language>
  <cp:lastModifiedBy>ICT_ JPNS</cp:lastModifiedBy>
  <dcterms:modified xsi:type="dcterms:W3CDTF">2012-03-06T09:55:42Z</dcterms:modified>
  <cp:revision>160</cp:revision>
  <dc:subject/>
  <dc:title>LAPORAN  PERTANDINGAN LAMAN WEB SEMPENA HARI INOVASI  PERINGKAT  JABATAN PELAJARAN NEGERI SEMBILAN  TAHUN 2010</dc:title>
</cp:coreProperties>
</file>